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D52BE3-ABEF-4E34-9BE4-287F5B420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the laminated Reference Ca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directions on how to open Tinkerplots from lap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Reference Card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s the model of a 5 part investig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ask a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ypotheses ( think abou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step of collecting the data has already been done for the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alysis to support conc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ask a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ypotheses ( think abou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step of collecting the data has already been done for the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alysis to support conc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e contains data about the backpack weights of students in grades 1, 3, 5, and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each of the attributes.  If you aren’t sure what an attribute is, read the description below the data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udents look at data, it’s essential that they begin with a question and that they understand what the attributes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a question dear to the hearts of many students, and the attributes are familiar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have a handout in your folders with questions you could also use with your students, if you wanted to use this activity to introduce them to Tinkerplot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aves time so students can go directly to the next ste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afraid to try something to see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   four arrowed handle – is the move handle  ( Also known as cross 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rrowed handle – is the sizing hand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move a window – hold mouse down on the title ba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ack triangle – means there is a submenu – more choices to choos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nkerplots is drag and drop – which means hold the mouse down on an item and drag it to the place you want and then let go of the mouse and it will dr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laminated Reference Card in your orang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inish before 15 minutes – Do males or females carry heavier back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 of Backpack Report that students could comple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ere looking at who carries the heaviest backpacks, it might have occurred to you that it would be good to consider the weight of the students as well as the weight of the backp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reate a new attribute that will calculate the percent each student’s backpack weight is of his or her bod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age 6 in Workshop Guide for how.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nswer these questions from completing the Backpacks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is different than the way you are currently working with data?</a:t>
            </a:r>
            <a:br>
              <a:rPr sz="1200"/>
            </a:br>
            <a:br>
              <a:rPr sz="1200"/>
            </a:br>
            <a:r>
              <a:rPr b="0" lang="en-US" sz="1200" spc="-1" strike="noStrike">
                <a:solidFill>
                  <a:srgbClr val="000000"/>
                </a:solidFill>
                <a:latin typeface="Arial"/>
              </a:rPr>
              <a:t>Advantages , Disadvantag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martboard or Q tablet to write th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reason some students don’t need much instruction in using TinkerPlots is that they are quite familiar with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know, some students even have more experience, and much less fear, that their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allowed to collaborate and share with one another what they have just learned about the software with one another, students are remarkable.  Often students collaborate naturally.   One student will figure out how to do something new, and very quickly, that know-how will spread around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afraid when the students catch on more quickly than we the teachers do!</a:t>
            </a:r>
            <a:br>
              <a:rPr sz="1200"/>
            </a:br>
            <a:r>
              <a:rPr b="0" lang="en-US" sz="1200" spc="-1" strike="noStrike">
                <a:solidFill>
                  <a:srgbClr val="000000"/>
                </a:solidFill>
                <a:latin typeface="Arial"/>
              </a:rPr>
              <a:t>Our role is changing to one of facilitator and helping students create meaning.  We do not have to be experts in the technology.   We can allow students to problem-solve and collaborate – 21</a:t>
            </a:r>
            <a:r>
              <a:rPr b="0" lang="en-US" sz="1200" spc="-1" strike="noStrike" baseline="30000">
                <a:solidFill>
                  <a:srgbClr val="000000"/>
                </a:solidFill>
                <a:latin typeface="Arial"/>
              </a:rPr>
              <a:t>st</a:t>
            </a:r>
            <a:r>
              <a:rPr b="0" lang="en-US" sz="1200" spc="-1" strike="noStrike">
                <a:solidFill>
                  <a:srgbClr val="000000"/>
                </a:solidFill>
                <a:latin typeface="Arial"/>
              </a:rPr>
              <a:t> century skills needed in the future work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ry a lesson that is listed in the Grade 7 book called Median and Mean and Shapes of Distrib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Handouts to teachers – in Orang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HANDOUT  is from page 61 in the red book Teacher book -  NOTE – it refers to the Technology Option.  I copied the handouts it refers to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LD – Teache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Student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GE – student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to show the 1  </a:t>
            </a:r>
            <a:r>
              <a:rPr b="0" i="1" lang="en-US" sz="1200" spc="-1" strike="noStrike">
                <a:solidFill>
                  <a:srgbClr val="000000"/>
                </a:solidFill>
                <a:latin typeface="Arial"/>
              </a:rPr>
              <a:t>Start with </a:t>
            </a:r>
            <a:r>
              <a:rPr b="1" i="1" lang="en-US" sz="1200" spc="-1" strike="noStrike">
                <a:solidFill>
                  <a:srgbClr val="33cc33"/>
                </a:solidFill>
                <a:latin typeface="Arial"/>
              </a:rPr>
              <a:t>Green</a:t>
            </a:r>
            <a:r>
              <a:rPr b="0" i="1" lang="en-US" sz="1200" spc="-1" strike="noStrike">
                <a:solidFill>
                  <a:srgbClr val="000000"/>
                </a:solidFill>
                <a:latin typeface="Arial"/>
              </a:rPr>
              <a:t> handout – Student directions and complete activity as a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W CLICK  2 </a:t>
            </a:r>
            <a:r>
              <a:rPr b="0" lang="en-US" sz="1200" spc="-1" strike="noStrike">
                <a:solidFill>
                  <a:srgbClr val="000000"/>
                </a:solidFill>
                <a:latin typeface="Arial"/>
              </a:rPr>
              <a:t>QUESTION – What is it about the data distribution that impacts where the mean or median might be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Make a prediction before making a set of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reason some students don’t need much instruction in using TinkerPlots is that they are quite familiar with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know, some students even have more experience, and much less fear, that their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allowed to collaborate and share with one another what they have just learned about the software with one another, students are remarkable.  Often students collaborate naturally.   One student will figure out how to do something new, and very quickly, that know-how will spread around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afraid when the students catch on more quickly than we the teachers do!</a:t>
            </a:r>
            <a:br>
              <a:rPr sz="1200"/>
            </a:br>
            <a:r>
              <a:rPr b="0" lang="en-US" sz="1200" spc="-1" strike="noStrike">
                <a:solidFill>
                  <a:srgbClr val="000000"/>
                </a:solidFill>
                <a:latin typeface="Arial"/>
              </a:rPr>
              <a:t>Our role is changing to one of facilitator and helping students create meaning.  We do not have to be experts in the technology.   We can allow students to problem-solve and collaborate – 21</a:t>
            </a:r>
            <a:r>
              <a:rPr b="0" lang="en-US" sz="1200" spc="-1" strike="noStrike" baseline="30000">
                <a:solidFill>
                  <a:srgbClr val="000000"/>
                </a:solidFill>
                <a:latin typeface="Arial"/>
              </a:rPr>
              <a:t>st</a:t>
            </a:r>
            <a:r>
              <a:rPr b="0" lang="en-US" sz="1200" spc="-1" strike="noStrike">
                <a:solidFill>
                  <a:srgbClr val="000000"/>
                </a:solidFill>
                <a:latin typeface="Arial"/>
              </a:rPr>
              <a:t> century skills needed in the future workplac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partner – you will follow the directions in the Green packet as if you are a student.  </a:t>
            </a:r>
            <a:br>
              <a:rPr sz="1200"/>
            </a:br>
            <a:r>
              <a:rPr b="0" lang="en-US" sz="1200" spc="-1" strike="noStrike">
                <a:solidFill>
                  <a:srgbClr val="000000"/>
                </a:solidFill>
                <a:latin typeface="Arial"/>
              </a:rPr>
              <a:t>On the PowerPoint I have the headings of the steps you will complete in these dir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top of the page it s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You 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play data cards, a table of the data, and a plot (graph) window        I can walk you through the step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nswer these questions from completing the Backpacks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is different than the way you are currently working with data?</a:t>
            </a:r>
            <a:br>
              <a:rPr sz="1200"/>
            </a:br>
            <a:br>
              <a:rPr sz="1200"/>
            </a:br>
            <a:r>
              <a:rPr b="0" lang="en-US" sz="1200" spc="-1" strike="noStrike">
                <a:solidFill>
                  <a:srgbClr val="000000"/>
                </a:solidFill>
                <a:latin typeface="Arial"/>
              </a:rPr>
              <a:t>Advantages , Disadvantag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example - Now let’s use an example of data from the 6</a:t>
            </a:r>
            <a:r>
              <a:rPr b="0" lang="en-US" sz="1200" spc="-1" strike="noStrike" baseline="30000">
                <a:solidFill>
                  <a:srgbClr val="000000"/>
                </a:solidFill>
                <a:latin typeface="Arial"/>
              </a:rPr>
              <a:t>th</a:t>
            </a:r>
            <a:r>
              <a:rPr b="0" lang="en-US" sz="1200" spc="-1" strike="noStrike">
                <a:solidFill>
                  <a:srgbClr val="000000"/>
                </a:solidFill>
                <a:latin typeface="Arial"/>
              </a:rPr>
              <a:t> grade textbook.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age 65 in your Red 6</a:t>
            </a:r>
            <a:r>
              <a:rPr b="0" lang="en-US" sz="1200" spc="-1" strike="noStrike" baseline="30000">
                <a:solidFill>
                  <a:srgbClr val="000000"/>
                </a:solidFill>
                <a:latin typeface="Arial"/>
              </a:rPr>
              <a:t>th</a:t>
            </a:r>
            <a:r>
              <a:rPr b="0" lang="en-US" sz="1200" spc="-1" strike="noStrike">
                <a:solidFill>
                  <a:srgbClr val="000000"/>
                </a:solidFill>
                <a:latin typeface="Arial"/>
              </a:rPr>
              <a:t> grade book – called “Data About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has the student create a stem pl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I created in Tinkerplots could be used with your students to allow them to manipulate and work with the data to help them understand what information is involved in the stem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 I am Sue Ann Miller – Instructional Technology Coach for the district.  I have been in the district for 9 years as a teacher.  I taught at Parma City Schools for 8 years before that.   I taught for a year in Hawaii.  And for 14 years before that I had a Retail Management ca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upport teachers with integrating technology into the classrooms.  Val made me aware that Berea City Schools has Tinkerplots software and need support in using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specifically designed to get students Grades 4-8 excited about what they learn from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your students make sense out of real data and recognize patterns as they unf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liff Konold developed TInkerPlots with a grant from the National Science Foundation. Hs is a psychologist by training and an expert in how children and adults reason about and learn probability, statistics and data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gradually organize data to answer their questions.  </a:t>
            </a:r>
            <a:br>
              <a:rPr sz="1200"/>
            </a:br>
            <a:r>
              <a:rPr b="0" lang="en-US" sz="1200" spc="-1" strike="noStrike">
                <a:solidFill>
                  <a:srgbClr val="000000"/>
                </a:solidFill>
                <a:latin typeface="Arial"/>
              </a:rPr>
              <a:t>Using TInkerPlots, students predict, question, research collaborate, analyze and problem solve all by rearranging a series of dots and watching patterns unf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br>
              <a:rPr sz="1200"/>
            </a:br>
            <a:r>
              <a:rPr b="0" lang="en-US" sz="1200" spc="-1" strike="noStrike">
                <a:solidFill>
                  <a:srgbClr val="000000"/>
                </a:solidFill>
                <a:latin typeface="Arial"/>
              </a:rPr>
              <a:t>Tinkerplots is installed on this cart of 24 laptops.  I have 6 additional licenses and can purchase more if you decide you will use the software. You can install a 60 day teacher evaluation copy if you want a temporary copy at home to play with the soft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6A478-0C94-4C1F-97F8-16A7AC179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946A-673F-4E49-8139-47292FE5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47F15-34C2-4C4C-8903-2DB918478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47C6C-AFE5-41DE-90FC-ADBA2CED2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827A4-4370-46D6-82BE-AEEF3991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25AEB-3CB6-4600-861A-73B2D1041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56B5A-E48D-4D1A-8551-051B7CFEA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52888-0293-4C2D-B065-C1D30CA41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E4CFD-F62E-4F9F-AAB6-E0336CD78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F9573-A49F-4D0A-99A1-08A526A24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B1CB-1119-494B-801C-CE2CC888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C4EA-95CF-4C4B-9B0D-D0192864F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F9AD-E4F3-4215-86A2-9BECDB64D44F}" type="slidenum">
              <a:rPr b="0" lang="en-US" sz="1400" spc="-1" strike="noStrike">
                <a:solidFill>
                  <a:srgbClr val="ffff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391520" y="4800600"/>
            <a:ext cx="133344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keypress.com/documents/tinkerplots/TinkerPlotsMovies/TinkerPlotsBasics.m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hyperlink" Target="http://www.keypress.com/documents/tinkerplots/TinkerPlotsMovies/ComparingGroups.m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bcsdmiddleschool.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bcsd-middleschool.wikispaces.com/"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bcsd-middleschool.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nkerPlots</a:t>
            </a:r>
            <a:endParaRPr b="0" lang="en-US" sz="5400" spc="-1" strike="noStrike">
              <a:solidFill>
                <a:srgbClr val="ccffff"/>
              </a:solidFill>
              <a:latin typeface="Arial"/>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rch 24, 2009</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a:t>
            </a:r>
            <a:r>
              <a:rPr b="0" lang="en-US" sz="2800" spc="-1" strike="noStrike" baseline="30000">
                <a:solidFill>
                  <a:srgbClr val="ffff00"/>
                </a:solidFill>
                <a:latin typeface="Arial"/>
              </a:rPr>
              <a:t>th</a:t>
            </a:r>
            <a:r>
              <a:rPr b="0" lang="en-US" sz="2800" spc="-1" strike="noStrike">
                <a:solidFill>
                  <a:srgbClr val="ffff00"/>
                </a:solidFill>
                <a:latin typeface="Arial"/>
              </a:rPr>
              <a:t> Grade Math</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d Middle School</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e Ann Miller</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 movie tutorial</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 Cat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to Open Tinkerplot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uble click on the TinkerPlots icon on the laptop deskto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gt;Ope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IVITIES</a:t>
            </a:r>
            <a:endParaRPr b="0" lang="en-US" sz="44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 movie tutorial – Ca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nds on </a:t>
            </a:r>
            <a:endParaRPr b="0" lang="en-US" sz="32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ckpack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son – 2.4 from Gr 7 “Median and Mean and Shapes of Distribution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ing Rope</a:t>
            </a: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lec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ckpacks Activity</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icipants will ask a question</a:t>
            </a:r>
            <a:endParaRPr b="0" lang="en-US" sz="3200" spc="-1" strike="noStrike">
              <a:solidFill>
                <a:srgbClr val="ffff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hypotheses </a:t>
            </a:r>
            <a:endParaRPr b="0" lang="en-US" sz="3200" spc="-1" strike="noStrike">
              <a:solidFill>
                <a:srgbClr val="ffff00"/>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lecting the data </a:t>
            </a:r>
            <a:r>
              <a:rPr b="0" i="1" lang="en-US" sz="2800" spc="-1" strike="noStrike">
                <a:solidFill>
                  <a:srgbClr val="ffff00"/>
                </a:solidFill>
                <a:latin typeface="Arial"/>
              </a:rPr>
              <a:t>(already been done for the students)</a:t>
            </a:r>
            <a:endParaRPr b="0" lang="en-US" sz="2800" spc="-1" strike="noStrike">
              <a:solidFill>
                <a:srgbClr val="ffff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lyze the data</a:t>
            </a:r>
            <a:endParaRPr b="0" lang="en-US" sz="3200" spc="-1" strike="noStrike">
              <a:solidFill>
                <a:srgbClr val="ffff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 analysis to support conclus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ind Backpacks Data Set</a:t>
            </a:r>
            <a:endParaRPr b="0" lang="en-US" sz="4400" spc="-1" strike="noStrike">
              <a:solidFill>
                <a:srgbClr val="cc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TinkerPlo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oose </a:t>
            </a:r>
            <a:r>
              <a:rPr b="1" lang="en-US" sz="3200" spc="-1" strike="noStrike">
                <a:solidFill>
                  <a:srgbClr val="ffff00"/>
                </a:solidFill>
                <a:latin typeface="Arial"/>
              </a:rPr>
              <a:t>File&gt;Open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o to the </a:t>
            </a:r>
            <a:r>
              <a:rPr b="1" lang="en-US" sz="3200" spc="-1" strike="noStrike">
                <a:solidFill>
                  <a:srgbClr val="ffff00"/>
                </a:solidFill>
                <a:latin typeface="Arial"/>
              </a:rPr>
              <a:t>Data and Demos </a:t>
            </a:r>
            <a:r>
              <a:rPr b="0" lang="en-US" sz="3200" spc="-1" strike="noStrike">
                <a:solidFill>
                  <a:srgbClr val="ffff00"/>
                </a:solidFill>
                <a:latin typeface="Arial"/>
              </a:rPr>
              <a:t>folder</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the </a:t>
            </a:r>
            <a:r>
              <a:rPr b="1" lang="en-US" sz="3200" spc="-1" strike="noStrike">
                <a:solidFill>
                  <a:srgbClr val="ffff00"/>
                </a:solidFill>
                <a:latin typeface="Arial"/>
              </a:rPr>
              <a:t>Exploring Data Starters </a:t>
            </a:r>
            <a:r>
              <a:rPr b="0" lang="en-US" sz="3200" spc="-1" strike="noStrike">
                <a:solidFill>
                  <a:srgbClr val="ffff00"/>
                </a:solidFill>
                <a:latin typeface="Arial"/>
              </a:rPr>
              <a:t>folder</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a:t>
            </a:r>
            <a:r>
              <a:rPr b="1" lang="en-US" sz="3200" spc="-1" strike="noStrike">
                <a:solidFill>
                  <a:srgbClr val="ffff00"/>
                </a:solidFill>
                <a:latin typeface="Arial"/>
              </a:rPr>
              <a:t>Heaviest Backpacks.tp </a:t>
            </a:r>
            <a:r>
              <a:rPr b="0" lang="en-US" sz="3200" spc="-1" strike="noStrike">
                <a:solidFill>
                  <a:srgbClr val="ffff00"/>
                </a:solidFill>
                <a:latin typeface="Arial"/>
              </a:rPr>
              <a:t>fil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Question</a:t>
            </a:r>
            <a:endParaRPr b="0" lang="en-US" sz="4400" spc="-1" strike="noStrike">
              <a:solidFill>
                <a:srgbClr val="cc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 students in higher grades carry heavier backpack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Hypotheses</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ith your partner, talk about what you expect to see.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3. Collect Data </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data is already provided in Tinkerplot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4. Analyze the Data</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2 different plots that answer the question. </a:t>
            </a:r>
            <a:r>
              <a:rPr b="0" i="1" lang="en-US" sz="2800" spc="-1" strike="noStrike">
                <a:solidFill>
                  <a:srgbClr val="ffff00"/>
                </a:solidFill>
                <a:latin typeface="Arial"/>
              </a:rPr>
              <a:t>Do students in higher grades carry heavier backpacks?</a:t>
            </a:r>
            <a:endParaRPr b="0" lang="en-US" sz="2800" spc="-1" strike="noStrike">
              <a:solidFill>
                <a:srgbClr val="ffff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NTS  - </a:t>
            </a:r>
            <a:endParaRPr b="0" lang="en-US" sz="24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 Z – will undo </a:t>
            </a:r>
            <a:endParaRPr b="0" lang="en-US" sz="24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create a new plot – drag the Plot icon from the toolbar into the document. </a:t>
            </a:r>
            <a:endParaRPr b="0" lang="en-US" sz="2400" spc="-1" strike="noStrike">
              <a:solidFill>
                <a:srgbClr val="ffff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743040" indent="-28584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D TIMER   for 15 minut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5. Conclusion?</a:t>
            </a:r>
            <a:endParaRPr b="0" lang="en-US" sz="4400" spc="-1" strike="noStrike">
              <a:solidFill>
                <a:srgbClr val="cc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your conclusion?</a:t>
            </a:r>
            <a:br>
              <a:rPr sz="3200"/>
            </a:br>
            <a:r>
              <a:rPr b="0" lang="en-US" sz="3200" spc="-1" strike="noStrike">
                <a:solidFill>
                  <a:srgbClr val="ffff00"/>
                </a:solidFill>
                <a:latin typeface="Arial"/>
              </a:rPr>
              <a:t>Do students in higher grades carry heavier backpacks?</a:t>
            </a:r>
            <a:br>
              <a:rPr sz="3200"/>
            </a:br>
            <a:r>
              <a:rPr b="0" lang="en-US" sz="3200" spc="-1" strike="noStrike">
                <a:solidFill>
                  <a:srgbClr val="ffff00"/>
                </a:solidFill>
                <a:latin typeface="Arial"/>
              </a:rPr>
              <a:t>How do your plots support your conclusion?</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is what you expected to see?</a:t>
            </a:r>
            <a:br>
              <a:rPr sz="3200"/>
            </a:br>
            <a:r>
              <a:rPr b="0" lang="en-US" sz="3200" spc="-1" strike="noStrike">
                <a:solidFill>
                  <a:srgbClr val="ffff00"/>
                </a:solidFill>
                <a:latin typeface="Arial"/>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assessment</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you used TinkerPlots with student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eate a new attribute?</a:t>
            </a:r>
            <a:endParaRPr b="0" lang="en-US" sz="4400" spc="-1" strike="noStrike">
              <a:solidFill>
                <a:srgbClr val="cc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dagogical Reflections Questions</a:t>
            </a:r>
            <a:endParaRPr b="0" lang="en-US" sz="40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es the investigation approach used in these activities engage students with the dat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have students learned at the end of these activitie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a:t>
            </a:r>
            <a:endParaRPr b="0" lang="en-US" sz="3200" spc="-1" strike="noStrike">
              <a:solidFill>
                <a:srgbClr val="ffff00"/>
              </a:solidFill>
              <a:latin typeface="Arial"/>
            </a:endParaRPr>
          </a:p>
        </p:txBody>
      </p:sp>
      <p:sp>
        <p:nvSpPr>
          <p:cNvPr id="92" name="PlaceHolder 3"/>
          <p:cNvSpPr>
            <a:spLocks noGrp="1"/>
          </p:cNvSpPr>
          <p:nvPr>
            <p:ph/>
          </p:nvPr>
        </p:nvSpPr>
        <p:spPr>
          <a:xfrm>
            <a:off x="4648320" y="1600200"/>
            <a:ext cx="44956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ADVANTAG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IVITIES</a:t>
            </a:r>
            <a:endParaRPr b="0" lang="en-US" sz="44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 movie tutorial – Ca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nds on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ckpacks</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sson – 2.4 from Gr 7 “Median and Mean and Shapes of Distributions”</a:t>
            </a:r>
            <a:endParaRPr b="0" lang="en-US" sz="24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ing Rope </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lec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sson 2.4 Grade 7</a:t>
            </a:r>
            <a:endParaRPr b="0" lang="en-US" sz="4400" spc="-1" strike="noStrike">
              <a:solidFill>
                <a:srgbClr val="ccffff"/>
              </a:solidFill>
              <a:latin typeface="Arial"/>
            </a:endParaRPr>
          </a:p>
        </p:txBody>
      </p:sp>
      <p:sp>
        <p:nvSpPr>
          <p:cNvPr id="96"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art with </a:t>
            </a:r>
            <a:r>
              <a:rPr b="1" lang="en-US" sz="3200" spc="-1" strike="noStrike">
                <a:solidFill>
                  <a:srgbClr val="33cc33"/>
                </a:solidFill>
                <a:latin typeface="Arial"/>
              </a:rPr>
              <a:t>Green</a:t>
            </a:r>
            <a:r>
              <a:rPr b="0" lang="en-US" sz="3200" spc="-1" strike="noStrike">
                <a:solidFill>
                  <a:srgbClr val="ffff00"/>
                </a:solidFill>
                <a:latin typeface="Arial"/>
              </a:rPr>
              <a:t> handout – Student directions and complete activity as a student.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 – What is it about the data distribution that impacts where the mean or median might be located?</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prediction before making a set of changes.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sson 2.4 Steps</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Getting Started with TinkerPlots” handout</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tting up Case Cards, Tables, and Plots; Entering Data (pages A5-A9)</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parating Data to Make a Dot Plot; sizing and labeling Icons (Pages A9-A10)</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ting the Median and the Mean; Showing Numeric Values </a:t>
            </a:r>
            <a:br>
              <a:rPr sz="3200"/>
            </a:br>
            <a:r>
              <a:rPr b="0" lang="en-US" sz="3200" spc="-1" strike="noStrike">
                <a:solidFill>
                  <a:srgbClr val="ffff00"/>
                </a:solidFill>
                <a:latin typeface="Arial"/>
              </a:rPr>
              <a:t>(Page A11-A12)   15 minutes</a:t>
            </a:r>
            <a:endParaRPr b="0" lang="en-US" sz="3200" spc="-1" strike="noStrike">
              <a:solidFill>
                <a:srgbClr val="ffff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4 Teacher Guide</a:t>
            </a: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eck the GOLD guide for guiding questions and expected respons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dagogical Reflections Questions</a:t>
            </a:r>
            <a:endParaRPr b="0" lang="en-US" sz="40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es the investigation approach used in these activities engage students with the dat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have students learned at the end of these activitie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a:t>
            </a:r>
            <a:endParaRPr b="0" lang="en-US" sz="4400" spc="-1" strike="noStrike">
              <a:solidFill>
                <a:srgbClr val="cc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a:t>
            </a:r>
            <a:endParaRPr b="0" lang="en-US" sz="3200" spc="-1" strike="noStrike">
              <a:solidFill>
                <a:srgbClr val="ffff00"/>
              </a:solidFill>
              <a:latin typeface="Arial"/>
            </a:endParaRPr>
          </a:p>
        </p:txBody>
      </p:sp>
      <p:sp>
        <p:nvSpPr>
          <p:cNvPr id="105" name="PlaceHolder 3"/>
          <p:cNvSpPr>
            <a:spLocks noGrp="1"/>
          </p:cNvSpPr>
          <p:nvPr>
            <p:ph/>
          </p:nvPr>
        </p:nvSpPr>
        <p:spPr>
          <a:xfrm>
            <a:off x="4648320" y="1600200"/>
            <a:ext cx="44956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ADVANTAG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aring Groups of data</a:t>
            </a:r>
            <a:endParaRPr b="0" lang="en-US" sz="4400" spc="-1" strike="noStrike">
              <a:solidFill>
                <a:srgbClr val="cc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ew Tutorial – </a:t>
            </a:r>
            <a:r>
              <a:rPr b="0" lang="en-US" sz="3200" spc="-1" strike="noStrike" u="sng">
                <a:solidFill>
                  <a:srgbClr val="66ccff"/>
                </a:solidFill>
                <a:uFillTx/>
                <a:latin typeface="Arial"/>
                <a:hlinkClick r:id="rId1"/>
              </a:rPr>
              <a:t>Comparing Group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761760"/>
            <a:ext cx="8305920" cy="56386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no, please select all that apply.</a:t>
            </a:r>
            <a:endParaRPr b="0" lang="en-US" sz="3200" spc="-1" strike="noStrike">
              <a:solidFill>
                <a:srgbClr val="ffff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have not used TinkerPlots because:</a:t>
            </a:r>
            <a:br>
              <a:rPr sz="3200"/>
            </a:b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n’t think it will help my students achieve excellence</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time to learn TinkerPlots</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d not know TinkerPlots existed</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y students might understand TP better than I do</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reason</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ther</a:t>
            </a:r>
            <a:endParaRPr b="0" lang="en-US" sz="3200" spc="-1" strike="noStrike">
              <a:solidFill>
                <a:srgbClr val="ffff00"/>
              </a:solidFill>
              <a:latin typeface="Arial"/>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mping Rope</a:t>
            </a:r>
            <a:endParaRPr b="0" lang="en-US" sz="44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Internet Explorer</a:t>
            </a:r>
            <a:endParaRPr b="0" lang="en-US" sz="32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ype in </a:t>
            </a:r>
            <a:r>
              <a:rPr b="0" lang="en-US" sz="2800" spc="-1" strike="noStrike" u="sng">
                <a:solidFill>
                  <a:srgbClr val="66ccff"/>
                </a:solidFill>
                <a:uFillTx/>
                <a:latin typeface="Arial"/>
                <a:hlinkClick r:id="rId1"/>
              </a:rPr>
              <a:t>http://bcsdmiddleschool.wikispaces.com/</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on Math on left navigation bar</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uble click on 2.2 Jumping Rope.tp fil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ipulate the data to make sense of data</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0 minute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mping Rope</a:t>
            </a:r>
            <a:endParaRPr b="0" lang="en-US" sz="4400" spc="-1" strike="noStrike">
              <a:solidFill>
                <a:srgbClr val="cc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 – Which class did better?</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otheses – Determine with your partne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ake 5 minutes to work with data.</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  Jumping Rope</a:t>
            </a:r>
            <a:endParaRPr b="0" lang="en-US" sz="4400" spc="-1" strike="noStrike">
              <a:solidFill>
                <a:srgbClr val="cc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your book to page 66-67 and make your data look like the stem plot.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could TinkerPlots help your students understand a stem plo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son 2.2 Jumping Rope from Gr 6  “Data About”  page 34-35 (student)</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a:t>
            </a:r>
            <a:endParaRPr b="0" lang="en-US" sz="4400" spc="-1" strike="noStrike">
              <a:solidFill>
                <a:srgbClr val="ccffff"/>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a:t>
            </a:r>
            <a:endParaRPr b="0" lang="en-US" sz="3200" spc="-1" strike="noStrike">
              <a:solidFill>
                <a:srgbClr val="ffff00"/>
              </a:solidFill>
              <a:latin typeface="Arial"/>
            </a:endParaRPr>
          </a:p>
        </p:txBody>
      </p:sp>
      <p:sp>
        <p:nvSpPr>
          <p:cNvPr id="116" name="PlaceHolder 3"/>
          <p:cNvSpPr>
            <a:spLocks noGrp="1"/>
          </p:cNvSpPr>
          <p:nvPr>
            <p:ph/>
          </p:nvPr>
        </p:nvSpPr>
        <p:spPr>
          <a:xfrm>
            <a:off x="4648320" y="1600200"/>
            <a:ext cx="44956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ADVANTAG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andards</a:t>
            </a:r>
            <a:endParaRPr b="0" lang="en-US"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oking at your Math standards book – where do you see TinkerPlot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ources</a:t>
            </a:r>
            <a:endParaRPr b="0" lang="en-US" sz="4400" spc="-1" strike="noStrike">
              <a:solidFill>
                <a:srgbClr val="ccff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u="sng">
                <a:solidFill>
                  <a:srgbClr val="66ccff"/>
                </a:solidFill>
                <a:uFillTx/>
                <a:latin typeface="Arial"/>
                <a:hlinkClick r:id="rId1"/>
              </a:rPr>
              <a:t>http://bcsd-middleschool.wikispaces.com/</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aluation</a:t>
            </a:r>
            <a:endParaRPr b="0" lang="en-US" sz="4400" spc="-1" strike="noStrike">
              <a:solidFill>
                <a:srgbClr val="cc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ckground Info</a:t>
            </a:r>
            <a:endParaRPr b="0" lang="en-US" sz="4400" spc="-1" strike="noStrike">
              <a:solidFill>
                <a:srgbClr val="cc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long have you taught 6</a:t>
            </a:r>
            <a:r>
              <a:rPr b="0" lang="en-US" sz="3200" spc="-1" strike="noStrike" baseline="30000">
                <a:solidFill>
                  <a:srgbClr val="ffff00"/>
                </a:solidFill>
                <a:latin typeface="Arial"/>
              </a:rPr>
              <a:t>th</a:t>
            </a:r>
            <a:r>
              <a:rPr b="0" lang="en-US" sz="3200" spc="-1" strike="noStrike">
                <a:solidFill>
                  <a:srgbClr val="ffff00"/>
                </a:solidFill>
                <a:latin typeface="Arial"/>
              </a:rPr>
              <a:t> grade math?</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re Background Info</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long have you been teaching overall?</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lcome</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pos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Clip (on MS </a:t>
            </a:r>
            <a:r>
              <a:rPr b="0" lang="en-US" sz="3200" spc="-1" strike="noStrike" u="sng">
                <a:solidFill>
                  <a:srgbClr val="66ccff"/>
                </a:solidFill>
                <a:uFillTx/>
                <a:latin typeface="Arial"/>
                <a:hlinkClick r:id="rId1"/>
              </a:rPr>
              <a:t>wiki</a:t>
            </a:r>
            <a:r>
              <a:rPr b="0" lang="en-US" sz="3200" spc="-1" strike="noStrike">
                <a:solidFill>
                  <a:srgbClr val="ffff00"/>
                </a:solidFill>
                <a:latin typeface="Arial"/>
              </a:rPr>
              <a: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 to TinkerPlots</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TinkerPlot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ere can you find TinkerPlot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IVITIE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 movie tutorial – Ca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nds on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ckpack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son – 2.4 from Gr 7 “Median and Mean and Shapes of Distribution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ing Rope </a:t>
            </a: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lec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dagogical Reflections Questions</a:t>
            </a:r>
            <a:endParaRPr b="0" lang="en-US" sz="4000" spc="-1" strike="noStrike">
              <a:solidFill>
                <a:srgbClr val="cc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es the investigation approach used in these activities engage students with the dat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have students learned at the end of these activitie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3:02:08Z</dcterms:created>
  <dc:creator>Information Technology</dc:creator>
  <dc:description/>
  <dc:language>en-US</dc:language>
  <cp:lastModifiedBy>Information Technology</cp:lastModifiedBy>
  <dcterms:modified xsi:type="dcterms:W3CDTF">2009-03-23T16:57:51Z</dcterms:modified>
  <cp:revision>44</cp:revision>
  <dc:subject/>
  <dc:title>Tinkerplots</dc:title>
</cp:coreProperties>
</file>